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benefits of electronic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ed from home/ on holidays / during absences /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building partners wi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it during other strands/top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C439-DE62-4829-9BDD-5514A8D9B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6380-D7DD-41AA-863A-81FF648AA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08C7-5AA0-4CB2-BC9F-29043A038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E6EF-F26C-4168-8D87-1ADDBE2BE5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F716-8FC3-4E8D-9221-FD9F77C9FE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ECD2-B33F-486C-B682-4959F33DD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85C9-27D3-4BE9-B776-26FBDB54C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AC9D-09B6-4312-B1C9-3230C2A0D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EB2B-92CF-4637-830A-859F9C47C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5A00-3DD0-466D-9C6E-8ACD102A6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873A-AFDD-4128-ADC1-DECB73A91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B781-EB99-467C-9E23-5710CCE8A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8A44-E8B4-4C5A-86A9-8CB8BC9795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ains-camppp.wikispaces.com/file/view/Learning%2BWalls%2BArticle.pdf" TargetMode="External"/><Relationship Id="rId2" Type="http://schemas.openxmlformats.org/officeDocument/2006/relationships/hyperlink" Target="http://gains-camppp.wikispaces.com/file/view/Learning%2BWalls%2BArticle.pdf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ame.on.ca/CLIPS/" TargetMode="External"/><Relationship Id="rId2" Type="http://schemas.openxmlformats.org/officeDocument/2006/relationships/hyperlink" Target="http://www.edugains.ca/newsite/math2/index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D507-2170-4D4A-99F3-AF86E0BB52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 5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ing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T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/have you used portfol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/have you used learning wa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EEBB-B469-4D46-804F-224E562B42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888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DBDB-2E1A-42DB-A46E-F2EDF7A646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athLearningWall"/>
          <p:cNvPicPr/>
          <p:nvPr/>
        </p:nvPicPr>
        <p:blipFill>
          <a:blip r:embed="rId1"/>
          <a:stretch/>
        </p:blipFill>
        <p:spPr>
          <a:xfrm>
            <a:off x="2438280" y="2041560"/>
            <a:ext cx="6201000" cy="42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5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98720" y="1752480"/>
            <a:ext cx="70689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lated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ains-camppp.wikispaces.com/file/view/Learning%2BWalls%2BArtic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8D44-AC4D-4402-9172-1D977392F4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733920" y="1371600"/>
            <a:ext cx="4800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4648320"/>
            <a:ext cx="8229600" cy="1466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98AE-1A7C-4A06-B49A-46A1799570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071E-4836-4996-884A-A458CE1DD0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 rot="1060800">
            <a:off x="5618160" y="740880"/>
            <a:ext cx="2890800" cy="3329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149400" y="1447920"/>
            <a:ext cx="51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udent assessment purposes, a portfolio can be defined as "a purposeful collection of student performances that exhibits a student's effort, progress and achievement over a period of tim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Hibbard et al, 1996, p. 18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Expert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groups of 5 (this is your home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from 1 to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s meet with ones, twos with tw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your expert group read and discusses assigned section from the Saskatchewan Professional Development Unit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Portfolios: More Than Just a Folder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0FEC-7138-4DB9-96ED-4A94ABAA95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Home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ts return to hom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3C1B-080E-43A3-9C36-9BD95B62FE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816800" y="2140200"/>
            <a:ext cx="3575520" cy="3617640"/>
            <a:chOff x="4816800" y="2140200"/>
            <a:chExt cx="3575520" cy="3617640"/>
          </a:xfrm>
        </p:grpSpPr>
        <p:sp>
          <p:nvSpPr>
            <p:cNvPr id="103" name="Right Arrow Callout 4"/>
            <p:cNvSpPr/>
            <p:nvPr/>
          </p:nvSpPr>
          <p:spPr>
            <a:xfrm rot="809400">
              <a:off x="4955760" y="3015360"/>
              <a:ext cx="1341000" cy="1351440"/>
            </a:xfrm>
            <a:prstGeom prst="rightArrowCallout">
              <a:avLst>
                <a:gd name="adj1" fmla="val 25197"/>
                <a:gd name="adj2" fmla="val 25195"/>
                <a:gd name="adj3" fmla="val 25000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Down Arrow Callout 5"/>
            <p:cNvSpPr/>
            <p:nvPr/>
          </p:nvSpPr>
          <p:spPr>
            <a:xfrm rot="809400">
              <a:off x="6167160" y="2277720"/>
              <a:ext cx="1341000" cy="1351440"/>
            </a:xfrm>
            <a:prstGeom prst="downArrowCallout">
              <a:avLst>
                <a:gd name="adj1" fmla="val 25002"/>
                <a:gd name="adj2" fmla="val 25000"/>
                <a:gd name="adj3" fmla="val 25195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eft Arrow Callout 6"/>
            <p:cNvSpPr/>
            <p:nvPr/>
          </p:nvSpPr>
          <p:spPr>
            <a:xfrm rot="809400">
              <a:off x="6912000" y="3484800"/>
              <a:ext cx="1341000" cy="1351440"/>
            </a:xfrm>
            <a:prstGeom prst="leftArrowCallout">
              <a:avLst>
                <a:gd name="adj1" fmla="val 25197"/>
                <a:gd name="adj2" fmla="val 25195"/>
                <a:gd name="adj3" fmla="val 25000"/>
                <a:gd name="adj4" fmla="val 6498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Up Arrow Callout 7"/>
            <p:cNvSpPr/>
            <p:nvPr/>
          </p:nvSpPr>
          <p:spPr>
            <a:xfrm rot="809400">
              <a:off x="5689800" y="4268520"/>
              <a:ext cx="1341000" cy="1351440"/>
            </a:xfrm>
            <a:prstGeom prst="upArrowCallout">
              <a:avLst>
                <a:gd name="adj1" fmla="val 25002"/>
                <a:gd name="adj2" fmla="val 25000"/>
                <a:gd name="adj3" fmla="val 25195"/>
                <a:gd name="adj4" fmla="val 700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20920" y="152280"/>
            <a:ext cx="592308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EVER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3124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evernote.com/school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structions for creating a portfolio using EVER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blog.evernote.com/2012/02/28/how-to-create-a-portfolio-with-evernote-education-seri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6226-3FEA-45F2-A397-122E31AE9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ilding a Learning Wall/Portfoli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ou may work electronically or 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ossible op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Prezi / Pape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Math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a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pdate/Beautify our class Learning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Other…i.e., explore CLIPS, Math GAINS sit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3544-27F0-47BE-A30C-6029AB7CD1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irculate and explore each other’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brief 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3E7E-97EB-4FCD-82B8-7C64F67D82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465120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 as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ing the Meaning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S/Epractice and the Math GAIN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Discussion and low key working period on Portfolios and 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DEC3-E955-4361-9ABC-F68F5F8DAF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layground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hool has just build a new playground.  ¾ of the playground is for field activities, and the rest of the yard is paved.  ½ of the paved area is for hopscotch squares.  How much of the playground is designated for hopscot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652C-BF3E-4180-9EA1-589F05FF8C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 of the Meaning of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ble group will pick one of the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 consolidate the Mea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11x17 poster that illustrates our best thinking at this point in time the Mea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E764-0A51-45C4-B898-C26920A9FD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200F-B6AA-448C-B1D8-73C1A3E30E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PS and Math GAI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th G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D794-D029-4AC4-B1C3-D3B323D8B2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Assessment of Leaning as a continuous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learning walls and portfolios as an opportunity for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portfolios and learning wall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85DE-E940-480D-AFE9-4EF49BDEA0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B4B2-248C-4979-8DE1-F11636FD69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side 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orm two circles - one insid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on the inside face participants in the outs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in the outside circle will rotate according to facilitator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scuss the prompt with the person across from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D7D7-BD21-46EF-95D5-7B9B498DEE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nut 4"/>
          <p:cNvSpPr/>
          <p:nvPr/>
        </p:nvSpPr>
        <p:spPr>
          <a:xfrm>
            <a:off x="6705720" y="304920"/>
            <a:ext cx="1218960" cy="1218960"/>
          </a:xfrm>
          <a:custGeom>
            <a:avLst/>
            <a:gdLst/>
            <a:ahLst/>
            <a:rect l="l" t="t" r="r" b="b"/>
            <a:pathLst>
              <a:path w="1219200" h="1219200">
                <a:moveTo>
                  <a:pt x="0" y="609600"/>
                </a:moveTo>
                <a:cubicBezTo>
                  <a:pt x="0" y="272927"/>
                  <a:pt x="272927" y="0"/>
                  <a:pt x="609600" y="0"/>
                </a:cubicBezTo>
                <a:cubicBezTo>
                  <a:pt x="946273" y="0"/>
                  <a:pt x="1219200" y="272927"/>
                  <a:pt x="1219200" y="609600"/>
                </a:cubicBezTo>
                <a:cubicBezTo>
                  <a:pt x="1219200" y="946273"/>
                  <a:pt x="946273" y="1219200"/>
                  <a:pt x="609600" y="1219200"/>
                </a:cubicBezTo>
                <a:cubicBezTo>
                  <a:pt x="272927" y="1219200"/>
                  <a:pt x="0" y="946273"/>
                  <a:pt x="0" y="609600"/>
                </a:cubicBezTo>
                <a:close/>
                <a:moveTo>
                  <a:pt x="304800" y="609600"/>
                </a:moveTo>
                <a:cubicBezTo>
                  <a:pt x="304800" y="777936"/>
                  <a:pt x="441264" y="914400"/>
                  <a:pt x="609600" y="914400"/>
                </a:cubicBezTo>
                <a:cubicBezTo>
                  <a:pt x="777936" y="914400"/>
                  <a:pt x="914400" y="777936"/>
                  <a:pt x="914400" y="609600"/>
                </a:cubicBezTo>
                <a:cubicBezTo>
                  <a:pt x="914400" y="441264"/>
                  <a:pt x="777936" y="304800"/>
                  <a:pt x="609600" y="304800"/>
                </a:cubicBezTo>
                <a:cubicBezTo>
                  <a:pt x="441264" y="304800"/>
                  <a:pt x="304800" y="441264"/>
                  <a:pt x="304800" y="6096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8-22T20:24:40Z</dcterms:modified>
  <cp:revision>41</cp:revision>
  <dc:subject/>
  <dc:title>&lt;Title&gt;</dc:title>
</cp:coreProperties>
</file>